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E0C-BE89-4226-A263-BFC290A9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C16-510C-420D-897C-9A95764C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98F1-B328-4BBD-A212-B335F8AB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644-C4A3-4132-AEE3-ACC11ABD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740-BCF5-4F78-BBDE-6A186FB6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B74-3302-43A8-A428-482BF781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B3F-E364-47C9-84E8-39136E80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B88-E873-4EDD-BC74-23DA2DBC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C8C-D4F2-45EA-A88E-5E88A0AE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B4B-8F62-495B-8152-B791149F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8519-B6FA-4451-A713-03DD1517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7C0-65CF-4E8B-A5F8-B5FA116A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FFFB-A1C5-4745-BF96-1D9E55C4D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2718000" cy="4076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40" y="5826240"/>
            <a:ext cx="3032280" cy="202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017960" y="4876920"/>
            <a:ext cx="2763720" cy="4114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809880" y="1066680"/>
            <a:ext cx="29718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92680" y="0"/>
            <a:ext cx="2889000" cy="434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9880" y="4800600"/>
            <a:ext cx="2648160" cy="3978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320" y="76320"/>
            <a:ext cx="2725560" cy="4093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6320" y="5867280"/>
            <a:ext cx="312408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382840" cy="358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560" y="4915080"/>
            <a:ext cx="2717640" cy="4076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792600" y="4954680"/>
            <a:ext cx="2684520" cy="4037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733920" y="1295280"/>
            <a:ext cx="304776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2040" y="4800600"/>
            <a:ext cx="2579760" cy="3886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78280" y="4876920"/>
            <a:ext cx="2979720" cy="3624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7240" y="1371600"/>
            <a:ext cx="3066840" cy="203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267080" y="819000"/>
            <a:ext cx="25131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9760" y="304920"/>
            <a:ext cx="2535120" cy="3809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86200" y="228600"/>
            <a:ext cx="2697120" cy="4038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4925880"/>
            <a:ext cx="2768760" cy="4141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183200" y="4800600"/>
            <a:ext cx="2674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4952880"/>
            <a:ext cx="1801800" cy="3733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386080" cy="3581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064040" y="228600"/>
            <a:ext cx="2489040" cy="3733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962520" y="5029200"/>
            <a:ext cx="2708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08-11-10T22:51:50Z</dcterms:modified>
  <cp:revision>5</cp:revision>
  <dc:subject/>
  <dc:title>Slide 1</dc:title>
</cp:coreProperties>
</file>